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standard restitution protocol. The fiber is paced at a constant S1-S1 interval followed by a single premature stimulus (S2) at progressively shorter S1-S2 intervals. Action potential duration at 95% of repolarization (APD95) of the response to S2 is measured. S1, basic pulse. B: dynamic restitution protocol. The fiber is paced at progressively shorter S1-S1 intervals until APD alternans occurs. During alternans, pacing is interrupted once after the long action potential (top tracing) and once after the short action potential (bottom tracing), which allows for direct measurement of APD95 of both action potentia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sequence of action potential durations (APD95) during dynamic restitution in canine endocardial muscle. During progressive shortening of basic cycle length (BCL), a transition from 1:1 stimulus-response locking (×) to 2:2 locking with alternation between long (○) and short (•) action potentials occurred.B: relationship between APD95 and preceding diastolic interval (DI) for results shown in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representative example of standard and dynamic restitution curves obtained from the same endocardial muscle fiber as in Fig. 2. Experimental data were fit with sigmoid functions (solid lines) as described in text. Parameters of the fitted function were a = 84.0 (−1,051.2), b = 106.7 (1,273.8),c = 13.0 (−351.7), andd = 22.3 (122.9) for the dynamic (standard) curve.r 2 coefficients were 0.99 for both fits. B: representative example of standard and dynamic restitution curves obtained from a Purkinje fiber. Parameters of the fitted function werea = 68.2 (85.4),b = 144.6 (168.6),c = 17.1 (40.4), andd = 33.3 (59.6) for the dynamic (standard) curve.r 2 coefficients were 0.99 for both fi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iteration of the dynamic restitution function APD =f(DI) using the same fiber as in Fig. 2. The slope of the restitution function is &lt;1 to the right of the dashed line and &gt;1 to the left of the dashed line. Solid −45° lines correspond to BCL of 300, 175, and 123 ms, respectively, where BCL = APD + DI.B: action potential recordings corresponding to data shown in A for BCL = 300, 175, and 123 ms. Numbers below action potentials indicate APD95 in ms. See text for discuss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ransmembrane action potential recording during an episode of ventricular fibrillation (VF) in an isolated, perfused canine left ventric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restitution relationship during an episode of VF in an isolated, perfused canine left ventricle. Action potential duration was measured at a constant voltage of −70 mV (APD-70) and is plotted as a function of preceding DI. Maximal slope of the fitted sigmoidal function is 2.27. B: relationship between APD95 and preceding DI during simulated VF in an endocardial muscle fiber. Maximal slope of the fitted curve is 1.3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Dynamic restitution of action potential duration during electrical alternans and ventricular fibrillatio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Marcus L. Koller, Mark L. Riccio, and Robert F. Gilmour Jr.</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JP - Heart</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75(5):H1635-H1642</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November 1, 1998</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8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5133960" y="6602400"/>
            <a:ext cx="4467240" cy="712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standard restitution protocol.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5133960" y="6602400"/>
            <a:ext cx="4467240" cy="712800"/>
          </a:xfrm>
          <a:prstGeom prst="rect">
            <a:avLst/>
          </a:prstGeom>
          <a:ln w="0">
            <a:noFill/>
          </a:ln>
        </p:spPr>
      </p:pic>
      <p:pic>
        <p:nvPicPr>
          <p:cNvPr id="48" name="" descr=""/>
          <p:cNvPicPr/>
          <p:nvPr/>
        </p:nvPicPr>
        <p:blipFill>
          <a:blip r:embed="rId2"/>
          <a:stretch/>
        </p:blipFill>
        <p:spPr>
          <a:xfrm>
            <a:off x="1933560" y="1079640"/>
            <a:ext cx="6216840" cy="5394240"/>
          </a:xfrm>
          <a:prstGeom prst="rect">
            <a:avLst/>
          </a:prstGeom>
          <a:ln w="0">
            <a:noFill/>
          </a:ln>
        </p:spPr>
      </p:pic>
      <p:sp>
        <p:nvSpPr>
          <p:cNvPr id="49" name=""/>
          <p:cNvSpPr/>
          <p:nvPr/>
        </p:nvSpPr>
        <p:spPr>
          <a:xfrm>
            <a:off x="19335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cus L. Koller et al. Am J Physiol Heart Circ Physiol 1998;275:H1635-H1642</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8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sequence of action potential durations (APD95) during dynamic restitution in canine endocardial muscle.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5133960" y="6602400"/>
            <a:ext cx="4467240" cy="712800"/>
          </a:xfrm>
          <a:prstGeom prst="rect">
            <a:avLst/>
          </a:prstGeom>
          <a:ln w="0">
            <a:noFill/>
          </a:ln>
        </p:spPr>
      </p:pic>
      <p:pic>
        <p:nvPicPr>
          <p:cNvPr id="53" name="" descr=""/>
          <p:cNvPicPr/>
          <p:nvPr/>
        </p:nvPicPr>
        <p:blipFill>
          <a:blip r:embed="rId2"/>
          <a:stretch/>
        </p:blipFill>
        <p:spPr>
          <a:xfrm>
            <a:off x="3319560" y="1079640"/>
            <a:ext cx="3446280" cy="5394240"/>
          </a:xfrm>
          <a:prstGeom prst="rect">
            <a:avLst/>
          </a:prstGeom>
          <a:ln w="0">
            <a:noFill/>
          </a:ln>
        </p:spPr>
      </p:pic>
      <p:sp>
        <p:nvSpPr>
          <p:cNvPr id="54" name=""/>
          <p:cNvSpPr/>
          <p:nvPr/>
        </p:nvSpPr>
        <p:spPr>
          <a:xfrm>
            <a:off x="33195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cus L. Koller et al. Am J Physiol Heart Circ Physiol 1998;275:H1635-H1642</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8 by American Physiological Societ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representative example of standard and dynamic restitution curves obtained from the same endocardial muscle fiber as in Fig. 2.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5133960" y="6602400"/>
            <a:ext cx="4467240" cy="712800"/>
          </a:xfrm>
          <a:prstGeom prst="rect">
            <a:avLst/>
          </a:prstGeom>
          <a:ln w="0">
            <a:noFill/>
          </a:ln>
        </p:spPr>
      </p:pic>
      <p:pic>
        <p:nvPicPr>
          <p:cNvPr id="58" name="" descr=""/>
          <p:cNvPicPr/>
          <p:nvPr/>
        </p:nvPicPr>
        <p:blipFill>
          <a:blip r:embed="rId2"/>
          <a:stretch/>
        </p:blipFill>
        <p:spPr>
          <a:xfrm>
            <a:off x="3319560" y="1079640"/>
            <a:ext cx="3446280" cy="5394240"/>
          </a:xfrm>
          <a:prstGeom prst="rect">
            <a:avLst/>
          </a:prstGeom>
          <a:ln w="0">
            <a:noFill/>
          </a:ln>
        </p:spPr>
      </p:pic>
      <p:sp>
        <p:nvSpPr>
          <p:cNvPr id="59" name=""/>
          <p:cNvSpPr/>
          <p:nvPr/>
        </p:nvSpPr>
        <p:spPr>
          <a:xfrm>
            <a:off x="33195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cus L. Koller et al. Am J Physiol Heart Circ Physiol 1998;275:H1635-H1642</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8 by American Physiological Societ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iteration of the dynamic restitution function APD =f(DI) using the same fiber as in Fig. 2.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5133960" y="6602400"/>
            <a:ext cx="4467240" cy="712800"/>
          </a:xfrm>
          <a:prstGeom prst="rect">
            <a:avLst/>
          </a:prstGeom>
          <a:ln w="0">
            <a:noFill/>
          </a:ln>
        </p:spPr>
      </p:pic>
      <p:pic>
        <p:nvPicPr>
          <p:cNvPr id="63" name="" descr=""/>
          <p:cNvPicPr/>
          <p:nvPr/>
        </p:nvPicPr>
        <p:blipFill>
          <a:blip r:embed="rId2"/>
          <a:stretch/>
        </p:blipFill>
        <p:spPr>
          <a:xfrm>
            <a:off x="739800" y="1531800"/>
            <a:ext cx="8604360" cy="4488120"/>
          </a:xfrm>
          <a:prstGeom prst="rect">
            <a:avLst/>
          </a:prstGeom>
          <a:ln w="0">
            <a:noFill/>
          </a:ln>
        </p:spPr>
      </p:pic>
      <p:sp>
        <p:nvSpPr>
          <p:cNvPr id="6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cus L. Koller et al. Am J Physiol Heart Circ Physiol 1998;275:H1635-H1642</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8 by American Physiological Societ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ransmembrane action potential recording during an episode of ventricular fibrillation (VF) in an isolated, perfused canine left ventricle.</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5133960" y="6602400"/>
            <a:ext cx="4467240" cy="712800"/>
          </a:xfrm>
          <a:prstGeom prst="rect">
            <a:avLst/>
          </a:prstGeom>
          <a:ln w="0">
            <a:noFill/>
          </a:ln>
        </p:spPr>
      </p:pic>
      <p:pic>
        <p:nvPicPr>
          <p:cNvPr id="68" name="" descr=""/>
          <p:cNvPicPr/>
          <p:nvPr/>
        </p:nvPicPr>
        <p:blipFill>
          <a:blip r:embed="rId2"/>
          <a:stretch/>
        </p:blipFill>
        <p:spPr>
          <a:xfrm>
            <a:off x="1830240" y="1079640"/>
            <a:ext cx="6424920" cy="5394240"/>
          </a:xfrm>
          <a:prstGeom prst="rect">
            <a:avLst/>
          </a:prstGeom>
          <a:ln w="0">
            <a:noFill/>
          </a:ln>
        </p:spPr>
      </p:pic>
      <p:sp>
        <p:nvSpPr>
          <p:cNvPr id="69" name=""/>
          <p:cNvSpPr/>
          <p:nvPr/>
        </p:nvSpPr>
        <p:spPr>
          <a:xfrm>
            <a:off x="18302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cus L. Koller et al. Am J Physiol Heart Circ Physiol 1998;275:H1635-H1642</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8 by American Physiological Society</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restitution relationship during an episode of VF in an isolated, perfused canine left ventricle.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5133960" y="6602400"/>
            <a:ext cx="4467240" cy="712800"/>
          </a:xfrm>
          <a:prstGeom prst="rect">
            <a:avLst/>
          </a:prstGeom>
          <a:ln w="0">
            <a:noFill/>
          </a:ln>
        </p:spPr>
      </p:pic>
      <p:pic>
        <p:nvPicPr>
          <p:cNvPr id="73" name="" descr=""/>
          <p:cNvPicPr/>
          <p:nvPr/>
        </p:nvPicPr>
        <p:blipFill>
          <a:blip r:embed="rId2"/>
          <a:stretch/>
        </p:blipFill>
        <p:spPr>
          <a:xfrm>
            <a:off x="3324240" y="1079640"/>
            <a:ext cx="3436920" cy="5394240"/>
          </a:xfrm>
          <a:prstGeom prst="rect">
            <a:avLst/>
          </a:prstGeom>
          <a:ln w="0">
            <a:noFill/>
          </a:ln>
        </p:spPr>
      </p:pic>
      <p:sp>
        <p:nvSpPr>
          <p:cNvPr id="74" name=""/>
          <p:cNvSpPr/>
          <p:nvPr/>
        </p:nvSpPr>
        <p:spPr>
          <a:xfrm>
            <a:off x="33242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cus L. Koller et al. Am J Physiol Heart Circ Physiol 1998;275:H1635-H1642</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8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