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bicarbonate ion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nd Mn(III)tetrakis (4-benzoic acid)porphyrin (MnTBAP) on cardiomyocyte injury induced by doxorubicin (Dox). Cardiomyocytes were plated onto 6-well plates at a density of 6–8 ×10</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cells/cm</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and incubated with Dox. MnTBAP (200 μM) was present only in experiments shown in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throughout the incubation period with Dox. An aliquot of medium was removed for lactate dehydrogenase (LDH) assay at the end of the incubation period.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cardiomyocytes were incubated in HEPES (25 mM) plus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25 mM)-buffered media (○) and HEPES-buffered media (●) in the presence of Dox for 48 h.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compared with HEPES-buffered media.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cardiomyocytes were incubated with Dox (40 μM).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cardiomyocytes were incubated with Dox (40 μM) in the presence of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25 mM) for 48 h.</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cardiomyocytes were incubated with Dox (40 μM) in the absence of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for 72 h. For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nd</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compared with control an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compared with Dox-treated cells. Results are presented as means ± SE of 3 separate experiments, each performed in duplica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8000"/>
            <a:ext cx="5407200" cy="41781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on the inactivation of aconitase induced by Dox and xanthine-xanthine oxidase. For</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cardiomyocytes were incubated with Dox (20 μM) for 20 h. There was no LDH release into the media throughout the incubation period with Dox under these conditions. Cells were washed and lysed at the end of the incubation period as described in methods. Aconitase activity was measured in the lysate after centrifugatio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conitase activity as a function of incubation time in Dox-free medium (●), in the presence of Dox (■), and in the presence of Dox and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reactivated aconitase was measured using Fe</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in the presence of dithiothreitol (DTT) as described in methods. Symbols indicate the same experimental conditions as i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compared with the Dox-free group. Results are presented as means ± SE of 3 separate experiments, each performed in duplicate.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inactivation of purified aconitase by a superoxide anion-generating system. Purified mitochondrial aconitase (2.3 μM) was incubated at 25°C in 0.1 M phosphate buffer (pH 7.5) in the presence or absence of xanthine oxidase. Aliquots were removed, and activities were determined at the indicated time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conitase incubated in the absence of substrate in control medium (▵), with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25 mM) (▴), with xanthine oxidase (○), and with xanthine oxidase and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 Superoxide was generated at a rate of 0.15 μM/min.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conitase incubated with trisodium isocitrate as a substrate; superoxide was generated at a rate of 1.5 μM/min. Symbols indicate the same experimental conditions as in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compared with xanthine oxidase treatment in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free buffer. Results are presented as means ± SE of 2 separate experiments, each performed in triplicat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on intracellular oxidative stress induced by Dox in cardiomyocytes. Cardiomyocytes were plated onto 35-mm dishes and incubated with 40 μM Dox for 3 h. Cells were washed and incubated with 10 μM dichlorodihydrofluorescein diacetate (carboxy-H</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DCFDA; </a:t>
            </a:r>
            <a:r>
              <a:rPr b="0" i="1" lang="en-GB" sz="1200" spc="-1" strike="noStrike">
                <a:solidFill>
                  <a:srgbClr val="000000"/>
                </a:solidFill>
                <a:latin typeface="Arial"/>
                <a:ea typeface="msgothic"/>
              </a:rPr>
              <a:t>A–D</a:t>
            </a:r>
            <a:r>
              <a:rPr b="0" lang="en-GB" sz="1200" spc="-1" strike="noStrike">
                <a:solidFill>
                  <a:srgbClr val="000000"/>
                </a:solidFill>
                <a:latin typeface="Arial"/>
                <a:ea typeface="msgothic"/>
              </a:rPr>
              <a:t> and</a:t>
            </a:r>
            <a:r>
              <a:rPr b="0" i="1" lang="en-GB" sz="1200" spc="-1" strike="noStrike">
                <a:solidFill>
                  <a:srgbClr val="000000"/>
                </a:solidFill>
                <a:latin typeface="Arial"/>
                <a:ea typeface="msgothic"/>
              </a:rPr>
              <a:t>F</a:t>
            </a:r>
            <a:r>
              <a:rPr b="0" lang="en-GB" sz="1200" spc="-1" strike="noStrike">
                <a:solidFill>
                  <a:srgbClr val="000000"/>
                </a:solidFill>
                <a:latin typeface="Arial"/>
                <a:ea typeface="msgothic"/>
              </a:rPr>
              <a:t>) or carboxy-dichlorofluorescein diacetate (carboxy-DCFDA;</a:t>
            </a:r>
            <a:r>
              <a:rPr b="0" i="1" lang="en-GB" sz="1200" spc="-1" strike="noStrike">
                <a:solidFill>
                  <a:srgbClr val="000000"/>
                </a:solidFill>
                <a:latin typeface="Arial"/>
                <a:ea typeface="msgothic"/>
              </a:rPr>
              <a:t>E</a:t>
            </a:r>
            <a:r>
              <a:rPr b="0" lang="en-GB" sz="1200" spc="-1" strike="noStrike">
                <a:solidFill>
                  <a:srgbClr val="000000"/>
                </a:solidFill>
                <a:latin typeface="Arial"/>
                <a:ea typeface="msgothic"/>
              </a:rPr>
              <a:t>) for 15 min at room temperature in the dark. Cells were washed and immediately studied using confocal microscopy as described in methods. Confocal images were quantitatively analyzed for fluorescence intensity.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control, no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control, 25 mM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Dox, no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Dox, 25 mM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E</a:t>
            </a:r>
            <a:r>
              <a:rPr b="0" lang="en-GB" sz="1200" spc="-1" strike="noStrike">
                <a:solidFill>
                  <a:srgbClr val="000000"/>
                </a:solidFill>
                <a:latin typeface="Arial"/>
                <a:ea typeface="msgothic"/>
              </a:rPr>
              <a:t>: analysis of fluorescence intensity of cardiomyocytes incubated with carboxy-DCFDA (oxidized, fluorescent form). </a:t>
            </a:r>
            <a:r>
              <a:rPr b="0" i="1" lang="en-GB" sz="1200" spc="-1" strike="noStrike">
                <a:solidFill>
                  <a:srgbClr val="000000"/>
                </a:solidFill>
                <a:latin typeface="Arial"/>
                <a:ea typeface="msgothic"/>
              </a:rPr>
              <a:t>F</a:t>
            </a:r>
            <a:r>
              <a:rPr b="0" lang="en-GB" sz="1200" spc="-1" strike="noStrike">
                <a:solidFill>
                  <a:srgbClr val="000000"/>
                </a:solidFill>
                <a:latin typeface="Arial"/>
                <a:ea typeface="msgothic"/>
              </a:rPr>
              <a:t>: summarized data for the intracellular oxidation of carboxy-H</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DCFDA (reduced, nonfluorescent form); 30–50 cells were counted per grou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compared with Dox-treated cells in the absence of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Results are presented as means ± 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on the formation of 2-ethoxycarbonyl-2-methyl-3,4-dihydro-3H-pyrrole-1-oxide (EMPO)-superoxide adduct (</a:t>
            </a:r>
            <a:r>
              <a:rPr b="0" i="1" lang="en-GB" sz="1200" spc="-1" strike="noStrike">
                <a:solidFill>
                  <a:srgbClr val="000000"/>
                </a:solidFill>
                <a:latin typeface="Arial"/>
                <a:ea typeface="msgothic"/>
              </a:rPr>
              <a:t>inset</a:t>
            </a:r>
            <a:r>
              <a:rPr b="0" lang="en-GB" sz="1200" spc="-1" strike="noStrike">
                <a:solidFill>
                  <a:srgbClr val="000000"/>
                </a:solidFill>
                <a:latin typeface="Arial"/>
                <a:ea typeface="msgothic"/>
              </a:rPr>
              <a:t>). EMPO was incubated with 0.05 U/ml xanthine oxidase and 1 mM xanthine in phosphate buffer (100 mM, pH 7.5) containing 100 μM diethylenepentaacetic acid at room temperature for 15 mi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EMPO (25 mM).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EMPO (25 mM) in the presence of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25 mM).</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EMPO (5 mM).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EMPO (5 mM) in the presence of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25 mM). Electron spin resonance spectra were recorded at room temperature. Spectrometer equipped with a TE</a:t>
            </a:r>
            <a:r>
              <a:rPr b="0" lang="en-GB" sz="1200" spc="-1" strike="noStrike" baseline="-33000">
                <a:solidFill>
                  <a:srgbClr val="000000"/>
                </a:solidFill>
                <a:latin typeface="Arial"/>
                <a:ea typeface="msgothic"/>
              </a:rPr>
              <a:t>102</a:t>
            </a:r>
            <a:r>
              <a:rPr b="0" lang="en-GB" sz="1200" spc="-1" strike="noStrike">
                <a:solidFill>
                  <a:srgbClr val="000000"/>
                </a:solidFill>
                <a:latin typeface="Arial"/>
                <a:ea typeface="msgothic"/>
              </a:rPr>
              <a:t> cavity was operated at 9.5 gHz with 100 kHz field modulation. Other conditions were the following: modulation amplitude, 1 G; time constant, 64 ms; scan time, 2 min; and microwave power, 5 mW.</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changes in extracellular pH on the accumulation and toxicity of Dox in cardiomyocytes. Cardiomyocytes were plated onto 100-mm dishes, incubated with Dox, washed, and lysed at the end of the incubation period, as described in methods, to release entrapped Dox. ○, No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 25 mM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cardiomyocytes were incubated with Dox (20 μM).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compared with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free media.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cardiomyocytes were incubated with Dox (20 μM) for 24 h.</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pH of the culture media was adjusted to values from 6.2 to 7.1 (in the presence of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or from 7.1 to 8.0 (in the absence of HCO</a:t>
            </a:r>
            <a:r>
              <a:rPr b="0" lang="en-GB" sz="1200" spc="-1" strike="noStrike" baseline="-33000">
                <a:solidFill>
                  <a:srgbClr val="000000"/>
                </a:solidFill>
                <a:latin typeface="Arial"/>
                <a:ea typeface="msgothic"/>
              </a:rPr>
              <a:t>3</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at the beginning of the incubation period with Dox (20 μM). After we incubated the media for a 24-h incubation period in a CO</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incubator, the pH of the media was measured, the cells were washed and lysed, and the concentration of Dox was assayed as described in methods.</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LDH release from cardiomyocytes as a function of the intracellular concentration of Dox. The pH of the culture media was adjusted as described in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Cardiomyocytes were incubated with Dox (30 μM) for 48 h. An aliquot of the medium was taken at the end of the incubation period for LDH assay. Cardiomyocytes were washed and lysed, and the concentration of Dox was measured as described in methods. Results are presented as means ± SE of 3 separate experiments, each performed in duplic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Bicarbonate exacerbates oxidative injury induced by antitumor antibiotic doxorubicin in cardiomyocyte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Eugene A. Konorev, Hao Zhang, Joy Joseph, M. Claire Kennedy, and B. Kalyanarama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Heart</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79(5):H2424-H243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1, 200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bicarbonate ion (HCO3 −) and Mn(III)tetrakis (4-benzoic acid)porphyrin (MnTBAP) on cardiomyocyte injury induced by doxorubicin (Dox).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2422440" y="1079640"/>
            <a:ext cx="5238720" cy="5394240"/>
          </a:xfrm>
          <a:prstGeom prst="rect">
            <a:avLst/>
          </a:prstGeom>
          <a:ln w="0">
            <a:noFill/>
          </a:ln>
        </p:spPr>
      </p:pic>
      <p:sp>
        <p:nvSpPr>
          <p:cNvPr id="49" name=""/>
          <p:cNvSpPr/>
          <p:nvPr/>
        </p:nvSpPr>
        <p:spPr>
          <a:xfrm>
            <a:off x="24224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ugene A. Konorev et al. Am J Physiol Heart Circ Physiol 2000;279:H2424-H243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HCO3 − on the inactivation of aconitase induced by Dox and xanthine-xanthine oxidas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1952640" y="1079640"/>
            <a:ext cx="6181560" cy="5394240"/>
          </a:xfrm>
          <a:prstGeom prst="rect">
            <a:avLst/>
          </a:prstGeom>
          <a:ln w="0">
            <a:noFill/>
          </a:ln>
        </p:spPr>
      </p:pic>
      <p:sp>
        <p:nvSpPr>
          <p:cNvPr id="54" name=""/>
          <p:cNvSpPr/>
          <p:nvPr/>
        </p:nvSpPr>
        <p:spPr>
          <a:xfrm>
            <a:off x="19526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ugene A. Konorev et al. Am J Physiol Heart Circ Physiol 2000;279:H2424-H243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HCO3 − on intracellular oxidative stress induced by Dox in cardiomyocyt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1243080" y="1079640"/>
            <a:ext cx="7597800" cy="5394240"/>
          </a:xfrm>
          <a:prstGeom prst="rect">
            <a:avLst/>
          </a:prstGeom>
          <a:ln w="0">
            <a:noFill/>
          </a:ln>
        </p:spPr>
      </p:pic>
      <p:sp>
        <p:nvSpPr>
          <p:cNvPr id="59" name=""/>
          <p:cNvSpPr/>
          <p:nvPr/>
        </p:nvSpPr>
        <p:spPr>
          <a:xfrm>
            <a:off x="12430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ugene A. Konorev et al. Am J Physiol Heart Circ Physiol 2000;279:H2424-H243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HCO3 − on the formation of 2-ethoxycarbonyl-2-methyl-3,4-dihydro-3H-pyrrole-1-oxide (EMPO)-superoxide adduct (inset).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2583000" y="1079640"/>
            <a:ext cx="4917960" cy="5394240"/>
          </a:xfrm>
          <a:prstGeom prst="rect">
            <a:avLst/>
          </a:prstGeom>
          <a:ln w="0">
            <a:noFill/>
          </a:ln>
        </p:spPr>
      </p:pic>
      <p:sp>
        <p:nvSpPr>
          <p:cNvPr id="64" name=""/>
          <p:cNvSpPr/>
          <p:nvPr/>
        </p:nvSpPr>
        <p:spPr>
          <a:xfrm>
            <a:off x="258300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ugene A. Konorev et al. Am J Physiol Heart Circ Physiol 2000;279:H2424-H2430</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changes in extracellular pH on the accumulation and toxicity of Dox in cardiomyocyte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2184480" y="1079640"/>
            <a:ext cx="5715000" cy="5394240"/>
          </a:xfrm>
          <a:prstGeom prst="rect">
            <a:avLst/>
          </a:prstGeom>
          <a:ln w="0">
            <a:noFill/>
          </a:ln>
        </p:spPr>
      </p:pic>
      <p:sp>
        <p:nvSpPr>
          <p:cNvPr id="69" name=""/>
          <p:cNvSpPr/>
          <p:nvPr/>
        </p:nvSpPr>
        <p:spPr>
          <a:xfrm>
            <a:off x="21844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ugene A. Konorev et al. Am J Physiol Heart Circ Physiol 2000;279:H2424-H2430</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