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ypical aortic and peripheral (radial) pressure pulse waveforms. Peripheral systolic pressure differs from aortic systolic pressure (peripheral usually greater than aortic) as a result of propagation and pressure wave reflection in the upper limb. Pressure wave reflection within the systemic circulation is thought to influence the morphology of the aortic and peripheral pulse. Measures of morphology include peripheral augmentation index (AI, defined from the peripheral pulse wave as shown) and central augmentation index (cAI, defined from the aortic pulse wave). Changes in the diastolic portion of the peripheral waveform were also quantified using diastolic augmentation index (DAI) and time of diastolic augmentation (</a:t>
            </a:r>
            <a:r>
              <a:rPr b="0" i="1" lang="en-GB" sz="1200" spc="-1" strike="noStrike">
                <a:solidFill>
                  <a:srgbClr val="000000"/>
                </a:solidFill>
                <a:latin typeface="Arial"/>
                <a:ea typeface="msgothic"/>
              </a:rPr>
              <a:t>t</a:t>
            </a:r>
            <a:r>
              <a:rPr b="0" lang="en-GB" sz="1200" spc="-1" strike="noStrike" baseline="-33000">
                <a:solidFill>
                  <a:srgbClr val="000000"/>
                </a:solidFill>
                <a:latin typeface="Arial"/>
                <a:ea typeface="msgothic"/>
              </a:rPr>
              <a:t>DA</a:t>
            </a:r>
            <a:r>
              <a:rPr b="0" lang="en-GB" sz="1200" spc="-1" strike="noStrike">
                <a:solidFill>
                  <a:srgbClr val="000000"/>
                </a:solidFill>
                <a:latin typeface="Arial"/>
                <a:ea typeface="msgothic"/>
              </a:rPr>
              <a:t>) defined as shown. SBP and DBP, systolic and diastolic blood pressu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typical digital pressure pulse waveforms obtained by Finapres at baseline and during exercise. Waveforms are ensemble averages of ∼10 cardiac cycles and are shown normalized to the same diastolic and systolic pressures to demonstrate the change in morphology. Exercise was accompanied by reduction or abolition of late systolic augmentation (+) and diastolic augmentation (⧫).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similar changes in pulse wave morphology in response to nitroglycerin (NTG) infusion at rest, in the absence of any change in heart 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Exercise reduces arterial pressure augmentation through vasodilation of muscular arteries in human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Shahzad Munir, Benyu Jiang, Antoine Guilcher, Sally Brett, Simon Redwood, Michael Marber, and Philip Chowienczyk</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Heart</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94(4):H1645-H1650</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pril 1, 2008</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ypical aortic and peripheral (radial) pressure pulse waveform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1281240" y="1079640"/>
            <a:ext cx="7522920" cy="5394240"/>
          </a:xfrm>
          <a:prstGeom prst="rect">
            <a:avLst/>
          </a:prstGeom>
          <a:ln w="0">
            <a:noFill/>
          </a:ln>
        </p:spPr>
      </p:pic>
      <p:sp>
        <p:nvSpPr>
          <p:cNvPr id="49" name=""/>
          <p:cNvSpPr/>
          <p:nvPr/>
        </p:nvSpPr>
        <p:spPr>
          <a:xfrm>
            <a:off x="12812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hahzad Munir et al. Am J Physiol Heart Circ Physiol 2008;294:H1645-H1650</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typical digital pressure pulse waveforms obtained by Finapres at baseline and during exercis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3639960" y="1079640"/>
            <a:ext cx="2805120" cy="5394240"/>
          </a:xfrm>
          <a:prstGeom prst="rect">
            <a:avLst/>
          </a:prstGeom>
          <a:ln w="0">
            <a:noFill/>
          </a:ln>
        </p:spPr>
      </p:pic>
      <p:sp>
        <p:nvSpPr>
          <p:cNvPr id="54" name=""/>
          <p:cNvSpPr/>
          <p:nvPr/>
        </p:nvSpPr>
        <p:spPr>
          <a:xfrm>
            <a:off x="36399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hahzad Munir et al. Am J Physiol Heart Circ Physiol 2008;294:H1645-H1650</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